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21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49.jpeg" ContentType="image/jpeg"/>
  <Override PartName="/ppt/media/image13.gif" ContentType="image/gif"/>
  <Override PartName="/ppt/media/image48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1.png" ContentType="image/png"/>
  <Override PartName="/ppt/media/image47.jpeg" ContentType="image/jpeg"/>
  <Override PartName="/ppt/media/image45.jpeg" ContentType="image/jpeg"/>
  <Override PartName="/ppt/media/image53.jpeg" ContentType="image/jpeg"/>
  <Override PartName="/ppt/media/image32.jpeg" ContentType="image/jpeg"/>
  <Override PartName="/ppt/media/image5.jpeg" ContentType="image/jpeg"/>
  <Override PartName="/ppt/media/image54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20.png" ContentType="image/png"/>
  <Override PartName="/ppt/media/image36.jpeg" ContentType="image/jpeg"/>
  <Override PartName="/ppt/media/image28.jpeg" ContentType="image/jpeg"/>
  <Override PartName="/ppt/media/image5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C95-FE16-4F94-AC5D-A0F7B537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69E3-4C87-4350-A583-2F10E1AB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78D-4502-498C-82FC-D7CB2DCA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EC97-69B5-40C4-8706-C3E08C4A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1183-99DA-436F-A7A6-C83580B0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29DC-AB5F-4E33-889D-C2CCCCDE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009C-CFA3-4AB9-B371-FE2C8BA8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6902-062A-4DA9-A191-0B5C884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5A2E-0E39-431B-B911-E2CA122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F6C7-F563-4874-80BA-D6EE4BF6F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4384-7EFA-4DEF-94FD-6377D135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BAF-95A8-4F31-94F3-6DAFA243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1B05-05BA-46F3-9472-A2DCA433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82C5-2C36-44CA-B178-2D5A9097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0B59-FAF7-4D23-A464-9C3E1AD7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E15D-B7AF-4E3F-B0D4-F4775321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D9D94-2289-447A-BD35-5576E30C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3EB-24FC-4AEB-B7A7-9F8BF410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17C-7FB2-408E-BBB1-F8F44A66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9835-8DE3-4663-8649-67E928D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799-2E7D-483B-B157-108EC5DC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91D-993F-41B5-89A6-1434B4D2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B15D-F0D5-4BED-B196-5832D254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B70-B966-4099-B881-95CD3EB8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17E9-3432-456D-A422-4BE4A8110D2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BBF5-FBD2-4FE0-AC9B-F5D0C028D8C4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CHEMIST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1" name="matter" descr=""/>
          <p:cNvPicPr/>
          <p:nvPr/>
        </p:nvPicPr>
        <p:blipFill>
          <a:blip r:embed="rId1"/>
          <a:stretch/>
        </p:blipFill>
        <p:spPr>
          <a:xfrm>
            <a:off x="2390760" y="2971800"/>
            <a:ext cx="4362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Electr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egatively charg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igh energy particles wit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ittle or no ma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Travel at very high spee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t various distanc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energy levels)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from the nucle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7" name="lithium" descr=""/>
          <p:cNvPicPr/>
          <p:nvPr/>
        </p:nvPicPr>
        <p:blipFill>
          <a:blip r:embed="rId1"/>
          <a:stretch/>
        </p:blipFill>
        <p:spPr>
          <a:xfrm>
            <a:off x="3286080" y="4038480"/>
            <a:ext cx="25718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2-3" descr=""/>
          <p:cNvPicPr/>
          <p:nvPr/>
        </p:nvPicPr>
        <p:blipFill>
          <a:blip r:embed="rId1"/>
          <a:stretch/>
        </p:blipFill>
        <p:spPr>
          <a:xfrm>
            <a:off x="1828800" y="4572000"/>
            <a:ext cx="6534000" cy="13478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lectrons in the same energy level are approximately the same distance from the nucleu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uter energy levels have more energy than inner leve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ach level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olds only 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ertain number of 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Periodic Tab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Elements are arranged by their atomic number on the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Periodic Tab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e horizontal rows are called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Periods &amp; tell the number of energy level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Vertical groups are called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Families &amp; tell the outermost number of electr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257480" y="685800"/>
            <a:ext cx="72007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4086360" cy="33242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Compound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895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elements do not exist by themselv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adily combine with other element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n a predictable fash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50292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ompoun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a pure substanc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de up of atoms of two or more elemen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proportion of atoms are always fix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hemical formula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hows the kind and proportion of atoms of each element that occurs in a particular comp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water molecule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7144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molecules-air" descr=""/>
          <p:cNvPicPr/>
          <p:nvPr/>
        </p:nvPicPr>
        <p:blipFill>
          <a:blip r:embed="rId1"/>
          <a:stretch/>
        </p:blipFill>
        <p:spPr>
          <a:xfrm>
            <a:off x="4305240" y="1981080"/>
            <a:ext cx="4838760" cy="3907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373392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olecul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the simplest part of a substance that retains all of the properties of the substance and exists in a free st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ome molecules ar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arge and complex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Chemical Formula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01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Subscript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after a symbol tell the number of atoms of each elem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af2d2d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0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has 2 atoms of hydrogen &amp; 1 atom of oxyg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Coefficient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before a formula tell the number of molecul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-4204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3O</a:t>
            </a:r>
            <a:r>
              <a:rPr b="1" lang="en-US" sz="3200" spc="-1" strike="noStrike" baseline="-25000">
                <a:solidFill>
                  <a:srgbClr val="af2d2d"/>
                </a:solidFill>
                <a:latin typeface="Comic Sans MS"/>
              </a:rPr>
              <a:t>2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represents 3 molecules of oxygen or (3x2) or 6 atoms of oxyg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20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molecules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062240" cy="3247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3200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hysical and chemical properti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a compound differ from the physical and chemical properties of the individual elements that compose i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lanetary" descr=""/>
          <p:cNvPicPr/>
          <p:nvPr/>
        </p:nvPicPr>
        <p:blipFill>
          <a:blip r:embed="rId1"/>
          <a:stretch/>
        </p:blipFill>
        <p:spPr>
          <a:xfrm>
            <a:off x="5105520" y="1676520"/>
            <a:ext cx="3528720" cy="352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4800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tendency of elements to combine and form compounds depends on the number and arrangement of electrons in their outermost energy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toms are most stable when their outer most energy level is fill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mass" descr="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2082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Composition of Matt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54864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tt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- Everything in universe is composed of mat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55080" indent="-42336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tter is anything tha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ccupies space or has mas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s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quantity of matter an object h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274040" indent="-2124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Weigh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pull of gravity on an objec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volume" descr=""/>
          <p:cNvPicPr/>
          <p:nvPr/>
        </p:nvPicPr>
        <p:blipFill>
          <a:blip r:embed="rId2"/>
          <a:stretch/>
        </p:blipFill>
        <p:spPr>
          <a:xfrm>
            <a:off x="6781680" y="1828800"/>
            <a:ext cx="16588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roperties of compounds" descr=""/>
          <p:cNvPicPr/>
          <p:nvPr/>
        </p:nvPicPr>
        <p:blipFill>
          <a:blip r:embed="rId1"/>
          <a:stretch/>
        </p:blipFill>
        <p:spPr>
          <a:xfrm>
            <a:off x="4838760" y="2133720"/>
            <a:ext cx="4305240" cy="33336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5257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atoms are not stable in their natural st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Tend to reac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(combine) with other atoms in order to become more stable (undergo chemical reaction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I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hemical reacti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bonds are broken; atoms rearranged and new chemical bonds are formed that stor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er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covalent bond water" descr=""/>
          <p:cNvPicPr/>
          <p:nvPr/>
        </p:nvPicPr>
        <p:blipFill>
          <a:blip r:embed="rId1"/>
          <a:stretch/>
        </p:blipFill>
        <p:spPr>
          <a:xfrm>
            <a:off x="2548080" y="3200400"/>
            <a:ext cx="4047840" cy="3333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Covalent Bond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Formed when two atom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hare one or more pairs of 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Ionic Bond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ome atoms become stable by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sing or gaining 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toms tha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se electr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ositive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ionic bond nacl 1" descr=""/>
          <p:cNvPicPr/>
          <p:nvPr/>
        </p:nvPicPr>
        <p:blipFill>
          <a:blip r:embed="rId1"/>
          <a:stretch/>
        </p:blipFill>
        <p:spPr>
          <a:xfrm>
            <a:off x="2562120" y="3962520"/>
            <a:ext cx="40197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toms tha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gain electr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egative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ecaus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ositive and negative electrical charges attrac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each other ionic bonds for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ionic bonds" descr=""/>
          <p:cNvPicPr/>
          <p:nvPr/>
        </p:nvPicPr>
        <p:blipFill>
          <a:blip r:embed="rId1"/>
          <a:stretch/>
        </p:blipFill>
        <p:spPr>
          <a:xfrm>
            <a:off x="1219320" y="3657600"/>
            <a:ext cx="701964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nergy and Matt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Energy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ability to do work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or cause chang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Occurs in </a:t>
            </a: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various form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Can be converted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to another for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Forms important to biological systems are </a:t>
            </a: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chemical, thermal, electrical and mechanical energ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2d2d"/>
                </a:solidFill>
                <a:latin typeface="Comic Sans MS"/>
              </a:rPr>
              <a:t>Free energy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is the energy in a system that is available for wo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lightbulb_cartoon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213336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tatesofmatter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4572000" cy="29606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States of Matt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toms are i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onstant mo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rate at which atoms or molecules in a substance move determines it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ta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Solid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lecules tightly linked together in 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definite sha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Vibrate in pla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ixed volume and shap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3" name="an02097_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0956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01064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27080" indent="-4554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Liquid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lecul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ot as tightly link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s a soli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intai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ixed volum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ble to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low and conform to shap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contain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glassware-red-and-blue-liquids-AHD" descr=""/>
          <p:cNvPicPr/>
          <p:nvPr/>
        </p:nvPicPr>
        <p:blipFill>
          <a:blip r:embed="rId1"/>
          <a:stretch/>
        </p:blipFill>
        <p:spPr>
          <a:xfrm>
            <a:off x="5181480" y="3962520"/>
            <a:ext cx="32767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6248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109800">
              <a:lnSpc>
                <a:spcPct val="100000"/>
              </a:lnSpc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Ga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7280" indent="3304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Molecules have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little or no attraction to each oth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7280" indent="3304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Fill the volume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of the occupied contai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7280" indent="330480">
              <a:lnSpc>
                <a:spcPct val="100000"/>
              </a:lnSpc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Move most rapidl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To cause a substance to change state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, thermal energy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(heat)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must be added to or removed from a subst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gas" descr=""/>
          <p:cNvPicPr/>
          <p:nvPr/>
        </p:nvPicPr>
        <p:blipFill>
          <a:blip r:embed="rId1"/>
          <a:stretch/>
        </p:blipFill>
        <p:spPr>
          <a:xfrm>
            <a:off x="6858000" y="2514600"/>
            <a:ext cx="1878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nergy and Chemical Reacti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Living things undergo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thousands of chemical reaction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as part of the life process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0" name="chem_reaction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08628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eriodic table" descr=""/>
          <p:cNvPicPr/>
          <p:nvPr/>
        </p:nvPicPr>
        <p:blipFill>
          <a:blip r:embed="rId1"/>
          <a:stretch/>
        </p:blipFill>
        <p:spPr>
          <a:xfrm>
            <a:off x="2971800" y="3421080"/>
            <a:ext cx="5452920" cy="3436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lement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ure substanc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t cannot be broken down chemically into simpler kinds of matter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re than 100 element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92 naturally occurring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5486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ny are very complex involving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ultistep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equences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biochemical pathway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hemical equati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represent chemical reac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actant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re shown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on the left side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f the equ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duct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re shown on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the right sid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2" name="IntermediaryMet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5812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number of each kind of atom must be the same on either side of the arrow </a:t>
            </a: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(equation must be balanced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Bond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may be broken or made forming new compoun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formation of hydronium ions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3838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Energy Transfer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510552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uch of the energy organisms need is provided by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ugar (food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Undergoes a series of chemical reactions in which energy is releas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cell respiratio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net release of free energy is called a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xergonic (exothermic) re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exergonic reaction" descr=""/>
          <p:cNvPicPr/>
          <p:nvPr/>
        </p:nvPicPr>
        <p:blipFill>
          <a:blip r:embed="rId1"/>
          <a:stretch/>
        </p:blipFill>
        <p:spPr>
          <a:xfrm>
            <a:off x="5715000" y="2895480"/>
            <a:ext cx="319104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914400"/>
            <a:ext cx="464796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Reactions that involve a net absorption of free energy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dergonic (endothermic) react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hotosynthe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an exampl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ost reactions in living organisms are 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; therefore living organisms require a constant source of ener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9" name="endergonic reaction" descr=""/>
          <p:cNvPicPr/>
          <p:nvPr/>
        </p:nvPicPr>
        <p:blipFill>
          <a:blip r:embed="rId1"/>
          <a:stretch/>
        </p:blipFill>
        <p:spPr>
          <a:xfrm>
            <a:off x="5105520" y="1895400"/>
            <a:ext cx="36288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144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chemical reaction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quire energy to beg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amount of energy needed to start the reaction is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tivation energ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1" name="exothermic energy" descr=""/>
          <p:cNvPicPr/>
          <p:nvPr/>
        </p:nvPicPr>
        <p:blipFill>
          <a:blip r:embed="rId1"/>
          <a:stretch/>
        </p:blipFill>
        <p:spPr>
          <a:xfrm>
            <a:off x="5105520" y="3200400"/>
            <a:ext cx="3762360" cy="3247920"/>
          </a:xfrm>
          <a:prstGeom prst="rect">
            <a:avLst/>
          </a:prstGeom>
          <a:ln w="0">
            <a:noFill/>
          </a:ln>
        </p:spPr>
      </p:pic>
      <p:pic>
        <p:nvPicPr>
          <p:cNvPr id="172" name="match - activation energy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000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680" y="1142640"/>
            <a:ext cx="3200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ertain chemical substanc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catalysts)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reduce the amount of activation energy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requir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iological catalysts are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4" name="decomposition of H202  2" descr=""/>
          <p:cNvPicPr/>
          <p:nvPr/>
        </p:nvPicPr>
        <p:blipFill>
          <a:blip r:embed="rId1"/>
          <a:stretch/>
        </p:blipFill>
        <p:spPr>
          <a:xfrm>
            <a:off x="4572000" y="1943280"/>
            <a:ext cx="4048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320" y="1143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an important class of catalysts in living organism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ly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tei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Thousa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different kind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ac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pecif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for a different chemical re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6" name="enzyme 2" descr=""/>
          <p:cNvPicPr/>
          <p:nvPr/>
        </p:nvPicPr>
        <p:blipFill>
          <a:blip r:embed="rId1"/>
          <a:stretch/>
        </p:blipFill>
        <p:spPr>
          <a:xfrm>
            <a:off x="2433600" y="4267080"/>
            <a:ext cx="42768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3d7a"/>
                </a:solidFill>
                <a:latin typeface="Comic Sans MS"/>
              </a:rPr>
              <a:t>Enzyme Struct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21016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zymes work on substances call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ubstrat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ubstrates must fit into a place on an enzyme called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 are reusable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3429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Reduction-Oxidation Reacti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ny of the chemical reactions that help transfer energy in living organisms involve the transfer of electrons (reduction-oxidation =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dox reacti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2" name="redox" descr=""/>
          <p:cNvPicPr/>
          <p:nvPr/>
        </p:nvPicPr>
        <p:blipFill>
          <a:blip r:embed="rId1"/>
          <a:stretch/>
        </p:blipFill>
        <p:spPr>
          <a:xfrm>
            <a:off x="3200400" y="4084560"/>
            <a:ext cx="3809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xidation reac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reactant loses electron(s) becoming more posit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oxidation of nacl" descr=""/>
          <p:cNvPicPr/>
          <p:nvPr/>
        </p:nvPicPr>
        <p:blipFill>
          <a:blip r:embed="rId1"/>
          <a:stretch/>
        </p:blipFill>
        <p:spPr>
          <a:xfrm>
            <a:off x="2340000" y="2514600"/>
            <a:ext cx="44625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66320" y="1371600"/>
            <a:ext cx="533412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90% of the mass of an organism is composed of 4 element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(oxygen, carbon, hydrogen and nitroge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ach element unique chemical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ymbo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sists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1-2 letter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10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Firs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letter is alway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apitaliz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2-1" descr=""/>
          <p:cNvPicPr/>
          <p:nvPr/>
        </p:nvPicPr>
        <p:blipFill>
          <a:blip r:embed="rId1"/>
          <a:stretch/>
        </p:blipFill>
        <p:spPr>
          <a:xfrm>
            <a:off x="6172200" y="25146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Reduction reac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– reactant gains electron(s) becoming more negativ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6" name="reduction of cl ions" descr=""/>
          <p:cNvPicPr/>
          <p:nvPr/>
        </p:nvPicPr>
        <p:blipFill>
          <a:blip r:embed="rId1"/>
          <a:stretch/>
        </p:blipFill>
        <p:spPr>
          <a:xfrm>
            <a:off x="2030400" y="2514600"/>
            <a:ext cx="50817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372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a3d7a"/>
                </a:solidFill>
                <a:latin typeface="Comic Sans MS"/>
              </a:rPr>
              <a:t>Solutions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Soluti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A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solution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is a mixture in which 2 or more substances are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uniformly distributed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in another subst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0" name="solutions" descr=""/>
          <p:cNvPicPr/>
          <p:nvPr/>
        </p:nvPicPr>
        <p:blipFill>
          <a:blip r:embed="rId1"/>
          <a:stretch/>
        </p:blipFill>
        <p:spPr>
          <a:xfrm>
            <a:off x="4572000" y="2514600"/>
            <a:ext cx="4114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salt water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4267080" cy="33433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39625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olut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the substance dissolved in the s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8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Particles may be ions, atoms, or molecu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olven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is the substance in which the solute is dissolv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f2d2d"/>
                </a:solidFill>
                <a:latin typeface="Comic Sans MS"/>
              </a:rPr>
              <a:t>Water is the universal solv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990360" y="990720"/>
            <a:ext cx="5562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Solutions can be composed of varying proportions of a given solute in a given solvent ---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vary in concentra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(measurement of the amount of solut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aturat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olution is one in which no more solute can be dissolv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queous solution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2a3d7a"/>
                </a:solidFill>
                <a:latin typeface="Comic Sans MS"/>
              </a:rPr>
              <a:t>(water)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re universally important to living thing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4" name="company_02_img_01" descr=""/>
          <p:cNvPicPr/>
          <p:nvPr/>
        </p:nvPicPr>
        <p:blipFill>
          <a:blip r:embed="rId1"/>
          <a:stretch/>
        </p:blipFill>
        <p:spPr>
          <a:xfrm>
            <a:off x="6477120" y="2362320"/>
            <a:ext cx="24573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541008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Dissociation of wat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75600" indent="-432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reaking apart of the water molecule into two ions of opposite charge (due to strong attraction of oxygen atom of one molecule for H atom of another water molecule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75600" indent="-432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9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(hydrogen ion) +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H</a:t>
            </a:r>
            <a:r>
              <a:rPr b="1" lang="en-US" sz="2900" spc="-1" strike="noStrike" baseline="30000">
                <a:solidFill>
                  <a:srgbClr val="af2d2d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(hydroxide ion)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75600" indent="-432360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9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</a:t>
            </a:r>
            <a:r>
              <a:rPr b="1" lang="en-US" sz="2900" spc="-1" strike="noStrike" baseline="-25000">
                <a:solidFill>
                  <a:srgbClr val="af2d2d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O (hydronium io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6" name="disociation_of_water_molecule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26863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Acids and Bas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ne of the most important aspects of a living system is the degree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idity or alkalinit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9" name="acids" descr=""/>
          <p:cNvPicPr/>
          <p:nvPr/>
        </p:nvPicPr>
        <p:blipFill>
          <a:blip r:embed="rId1"/>
          <a:stretch/>
        </p:blipFill>
        <p:spPr>
          <a:xfrm>
            <a:off x="2624040" y="3429000"/>
            <a:ext cx="38959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H" descr=""/>
          <p:cNvPicPr/>
          <p:nvPr/>
        </p:nvPicPr>
        <p:blipFill>
          <a:blip r:embed="rId1"/>
          <a:stretch/>
        </p:blipFill>
        <p:spPr>
          <a:xfrm>
            <a:off x="4572000" y="3733920"/>
            <a:ext cx="3857760" cy="2763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Acids</a:t>
            </a:r>
            <a:r>
              <a:rPr b="0" lang="en-US" sz="3600" spc="-1" strike="noStrike">
                <a:solidFill>
                  <a:srgbClr val="2a3d7a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umber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ydronium ions in solutions is great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n the number of hydroxide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26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Cl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Cl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-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Bas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umber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ydroxide ions in solution is great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n the number of hydronium i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100000"/>
              </a:lnSpc>
              <a:spcBef>
                <a:spcPts val="726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aOH </a:t>
            </a:r>
            <a:r>
              <a:rPr b="1" lang="en-US" sz="2800" spc="-1" strike="noStrike">
                <a:solidFill>
                  <a:srgbClr val="5b5249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Na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OH</a:t>
            </a:r>
            <a:r>
              <a:rPr b="1" lang="en-US" sz="2900" spc="-1" strike="noStrike" baseline="30000">
                <a:solidFill>
                  <a:srgbClr val="5b5249"/>
                </a:solidFill>
                <a:latin typeface="Comic Sans MS"/>
              </a:rPr>
              <a:t>-</a:t>
            </a:r>
            <a:endParaRPr b="0" lang="en-US" sz="29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05" name="PropAcidBase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3733920" cy="23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H scale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19400" cy="31258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pH  Scal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3200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garithmic scal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for comparing the relative concentrations of hydronium ions and hydroxide ions in a s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ranges from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0 to 14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343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af2d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Each pH is 10X stronger than next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af2d2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5b5249"/>
                </a:solidFill>
                <a:latin typeface="Comic Sans MS"/>
              </a:rPr>
              <a:t>e.g. ph 1 is 10 times stronger than ph 2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2-2" descr=""/>
          <p:cNvPicPr/>
          <p:nvPr/>
        </p:nvPicPr>
        <p:blipFill>
          <a:blip r:embed="rId1"/>
          <a:stretch/>
        </p:blipFill>
        <p:spPr>
          <a:xfrm>
            <a:off x="5867280" y="2666880"/>
            <a:ext cx="3019680" cy="28576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Atom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51818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implest particle of an elemen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at retains all the properties of that el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perties of atom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determine the structure and properties of the matter they compo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ur understanding of the structure of atoms based on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cientific models,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not observa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low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e pH the stronger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ci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highe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the pH the stronger the ba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p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7.0 is neut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1" name="household_bases" descr=""/>
          <p:cNvPicPr/>
          <p:nvPr/>
        </p:nvPicPr>
        <p:blipFill>
          <a:blip r:embed="rId1"/>
          <a:stretch/>
        </p:blipFill>
        <p:spPr>
          <a:xfrm>
            <a:off x="5257800" y="2895480"/>
            <a:ext cx="3581280" cy="3205440"/>
          </a:xfrm>
          <a:prstGeom prst="rect">
            <a:avLst/>
          </a:prstGeom>
          <a:ln w="0">
            <a:noFill/>
          </a:ln>
        </p:spPr>
      </p:pic>
      <p:pic>
        <p:nvPicPr>
          <p:cNvPr id="212" name="household_acids" descr=""/>
          <p:cNvPicPr/>
          <p:nvPr/>
        </p:nvPicPr>
        <p:blipFill>
          <a:blip r:embed="rId2"/>
          <a:stretch/>
        </p:blipFill>
        <p:spPr>
          <a:xfrm>
            <a:off x="1600200" y="3048120"/>
            <a:ext cx="2962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buffered system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638440" cy="300024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Buffer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21016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trol of pH is very importa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ost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nzymes function only within a very narrow pH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trol is accomplished with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buffer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made by the bod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uffers keep a neutral pH (pH 7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buffered blood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114800" cy="330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066680" y="1295280"/>
            <a:ext cx="41911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Buffer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eutraliz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mall amounts of either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n acid or base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added to a solu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mplex buffering system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intain the pH valu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your body’s many fluids at normal and safe level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arts of atom" descr=""/>
          <p:cNvPicPr/>
          <p:nvPr/>
        </p:nvPicPr>
        <p:blipFill>
          <a:blip r:embed="rId1"/>
          <a:stretch/>
        </p:blipFill>
        <p:spPr>
          <a:xfrm>
            <a:off x="4772160" y="2514600"/>
            <a:ext cx="4371840" cy="3191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Nucleu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Central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co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sists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ositive charged protons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d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 neutral neu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Positively charge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ontains most of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mass of the ato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666960" cy="26668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Prot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ll atoms of a given element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have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same number of prot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umber of prot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called 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atomic numbe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Number of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proton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balanced by an equal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number of negatively charged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electron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The Neutron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3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number vari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slightly among atoms of the same el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ifferent number of neutrons produces </a:t>
            </a:r>
            <a:r>
              <a:rPr b="1" lang="en-US" sz="2800" spc="-1" strike="noStrike">
                <a:solidFill>
                  <a:srgbClr val="af2d2d"/>
                </a:solidFill>
                <a:latin typeface="Comic Sans MS"/>
              </a:rPr>
              <a:t>isotope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of the same element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2" name="carbon isotopes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64198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Atomic Mas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Protons &amp; neutrons are found in the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nucleus 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of an ato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Protons and neutrons each have a mass of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1 amu (atomic mass unit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0" lang="en-US" sz="3200" spc="-1" strike="noStrike">
                <a:solidFill>
                  <a:srgbClr val="af2d2d"/>
                </a:solidFill>
                <a:latin typeface="Comic Sans MS"/>
              </a:rPr>
              <a:t>atomic mass</a:t>
            </a: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of an atom is found by adding the number of protons &amp; neutrons in an ato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7T22:05:10Z</dcterms:created>
  <dc:creator>Steve</dc:creator>
  <dc:description/>
  <dc:language>en-US</dc:language>
  <cp:lastModifiedBy>nbdoe</cp:lastModifiedBy>
  <cp:lastPrinted>2006-09-20T08:28:18Z</cp:lastPrinted>
  <dcterms:modified xsi:type="dcterms:W3CDTF">2007-02-21T17:46:18Z</dcterms:modified>
  <cp:revision>34</cp:revision>
  <dc:subject/>
  <dc:title>CHEMISTRY – Chapter 2</dc:title>
</cp:coreProperties>
</file>